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7DEE-3542-4545-9E8C-63282836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9EB2-47F3-41DA-B475-4F2D07CF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0D30-62E6-4D51-9E2B-9ABA2A94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FFD1-8655-4718-AD97-920F724A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69B6-8074-489B-B971-237E5E9B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4860-380F-40BF-AF53-F38AA6C7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6E4A-6C9E-4BD3-B530-1DAD0F88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6602-FED8-4FFA-B293-5296CC07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A2A2-01EF-4ACC-A3DC-7CFFD303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4EE-7983-47B6-BD29-7EE88896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3774-C544-4DAC-B02B-B871C455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2205-C159-4E88-A91B-6248CB84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A3C3-1F75-49E1-B626-C3276C19F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4. недељ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330920" y="1996920"/>
            <a:ext cx="662868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АЛИДНОСТ И ЗНАЧАЈНОС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ИЈАГНОСТИЧКОГ ТЕС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је ова дијагностичка студија валидн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је било независн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слепог упоређења 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ЗЛАТНИМ СТАНДАРДОМ дијагноз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је дијагностички тест испитан на одговарајућем спектру пацијена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сличног оном у стварном живот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је златни стандард употребљен независно од резултата дијагностичког тес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Резултати студије о дијагностичком тесту су корисни ако је дијагностички тест примењен на болесницима са благ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али и тешком болешћ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на болесницима у раној и касној фаз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на нелеченим и леченим болесниц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као и на здравим особа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Такођ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корисно је да тест буде примењен и на болесницима са болестима које су сличне оној која се испиту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докази о дијагностичком тесту клинички значај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ијагностички тестови који стварају велику разлику између вероватноће пре и после теста су значај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Сензитивнос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проценат болесника код којих је тест позитив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Специфичнос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проценат здравих особа код којих је тест негатив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ајност клиничког те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6990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82548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224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љење (хипохромна анем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224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уп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2240">
                      <a:solidFill>
                        <a:srgbClr val="333333"/>
                      </a:solidFill>
                    </a:lnR>
                    <a:lnT w="1224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14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сут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тат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јагност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 те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ритин у серуму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zitivan (&lt;65m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1   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2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224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0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tivan (&gt;65m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     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224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03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уп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224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224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224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224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224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ајност клиничког те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ензитивност = а/(а+ц) = 731/809 =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пецифичност = д/(б+д) =1500/1770= 8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нос могућности (ликелихоод ратио) за позитиван исход теста= ОМ+=сенз/(1-спец)=90%/15%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нос могућности (ликелихоод ратио) за негативан исход теста=ОМ-=(1-сенз)/спец=10%/85%=0.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зитивна вредност предвиђања=а/(а+б)=731/1001=7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Негативна вредност предвиђањ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500/1578=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валенца=(а+ц)/(а+б+ц+д)=809/2579=3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Однос пре тес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пр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тест одд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преваленц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(1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преваленц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31%/69%=0.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нос после теста (пост-тест оддс) =однос пре теста x однос могућ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Вероватноћа после тес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однос после тес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однос после тес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валид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значајни дијагностички тест може да се примени код нашег пацијен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је тест доступ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болесник може да га пла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је тачан и прецизан у нашим услови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можете имати прихватљиву процену вероватноће пре теста за вашег болесн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 ваше пракс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 личног иску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 литерату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 клиничке спекулац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ће вероватноћа после теста утицати на лечење вашег болесн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а ли ће утицати на одлуку о врсти третман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а ли ће пацијент прихватити третмане који долазе у обзи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Колико утиче однос могућност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214200" y="2637000"/>
            <a:ext cx="8715240" cy="2295360"/>
            <a:chOff x="214200" y="2637000"/>
            <a:chExt cx="8715240" cy="2295360"/>
          </a:xfrm>
        </p:grpSpPr>
        <p:grpSp>
          <p:nvGrpSpPr>
            <p:cNvPr id="57" name="Group 5"/>
            <p:cNvGrpSpPr/>
            <p:nvPr/>
          </p:nvGrpSpPr>
          <p:grpSpPr>
            <a:xfrm>
              <a:off x="219240" y="2641680"/>
              <a:ext cx="8704080" cy="2286000"/>
              <a:chOff x="219240" y="2641680"/>
              <a:chExt cx="8704080" cy="2286000"/>
            </a:xfrm>
          </p:grpSpPr>
          <p:grpSp>
            <p:nvGrpSpPr>
              <p:cNvPr id="58" name="Group 6"/>
              <p:cNvGrpSpPr/>
              <p:nvPr/>
            </p:nvGrpSpPr>
            <p:grpSpPr>
              <a:xfrm>
                <a:off x="219240" y="2641680"/>
                <a:ext cx="5142960" cy="457200"/>
                <a:chOff x="219240" y="2641680"/>
                <a:chExt cx="5142960" cy="457200"/>
              </a:xfrm>
            </p:grpSpPr>
            <p:sp>
              <p:nvSpPr>
                <p:cNvPr id="59" name="Rectangle 7"/>
                <p:cNvSpPr/>
                <p:nvPr/>
              </p:nvSpPr>
              <p:spPr>
                <a:xfrm>
                  <a:off x="219240" y="2641680"/>
                  <a:ext cx="5142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Rs </a:t>
                  </a: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већи од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0 </a:t>
                  </a: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ли мањи од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0.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8"/>
                <p:cNvSpPr/>
                <p:nvPr/>
              </p:nvSpPr>
              <p:spPr>
                <a:xfrm>
                  <a:off x="219240" y="2641680"/>
                  <a:ext cx="51429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Group 9"/>
              <p:cNvGrpSpPr/>
              <p:nvPr/>
            </p:nvGrpSpPr>
            <p:grpSpPr>
              <a:xfrm>
                <a:off x="5362560" y="2641680"/>
                <a:ext cx="3560760" cy="457200"/>
                <a:chOff x="5362560" y="2641680"/>
                <a:chExt cx="3560760" cy="457200"/>
              </a:xfrm>
            </p:grpSpPr>
            <p:sp>
              <p:nvSpPr>
                <p:cNvPr id="62" name="Rectangle 10"/>
                <p:cNvSpPr/>
                <p:nvPr/>
              </p:nvSpPr>
              <p:spPr>
                <a:xfrm>
                  <a:off x="5362560" y="2641680"/>
                  <a:ext cx="3560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зазива велике промен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1"/>
                <p:cNvSpPr/>
                <p:nvPr/>
              </p:nvSpPr>
              <p:spPr>
                <a:xfrm>
                  <a:off x="5362560" y="2641680"/>
                  <a:ext cx="35607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Group 12"/>
              <p:cNvGrpSpPr/>
              <p:nvPr/>
            </p:nvGrpSpPr>
            <p:grpSpPr>
              <a:xfrm>
                <a:off x="219240" y="3098880"/>
                <a:ext cx="5142960" cy="457200"/>
                <a:chOff x="219240" y="3098880"/>
                <a:chExt cx="5142960" cy="457200"/>
              </a:xfrm>
            </p:grpSpPr>
            <p:sp>
              <p:nvSpPr>
                <p:cNvPr id="65" name="Rectangle 13"/>
                <p:cNvSpPr/>
                <p:nvPr/>
              </p:nvSpPr>
              <p:spPr>
                <a:xfrm>
                  <a:off x="219240" y="3098880"/>
                  <a:ext cx="5142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Rs 5 - 10 </a:t>
                  </a: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ли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0.1 - 0.2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Rectangle 14"/>
                <p:cNvSpPr/>
                <p:nvPr/>
              </p:nvSpPr>
              <p:spPr>
                <a:xfrm>
                  <a:off x="219240" y="3098880"/>
                  <a:ext cx="51429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Group 15"/>
              <p:cNvGrpSpPr/>
              <p:nvPr/>
            </p:nvGrpSpPr>
            <p:grpSpPr>
              <a:xfrm>
                <a:off x="5362560" y="3098880"/>
                <a:ext cx="3560760" cy="457200"/>
                <a:chOff x="5362560" y="3098880"/>
                <a:chExt cx="3560760" cy="457200"/>
              </a:xfrm>
            </p:grpSpPr>
            <p:sp>
              <p:nvSpPr>
                <p:cNvPr id="68" name="Rectangle 16"/>
                <p:cNvSpPr/>
                <p:nvPr/>
              </p:nvSpPr>
              <p:spPr>
                <a:xfrm>
                  <a:off x="5362560" y="3098880"/>
                  <a:ext cx="3560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зазива умерене промен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Rectangle 17"/>
                <p:cNvSpPr/>
                <p:nvPr/>
              </p:nvSpPr>
              <p:spPr>
                <a:xfrm>
                  <a:off x="5362560" y="3098880"/>
                  <a:ext cx="35607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Group 18"/>
              <p:cNvGrpSpPr/>
              <p:nvPr/>
            </p:nvGrpSpPr>
            <p:grpSpPr>
              <a:xfrm>
                <a:off x="219240" y="3556080"/>
                <a:ext cx="5142960" cy="457200"/>
                <a:chOff x="219240" y="3556080"/>
                <a:chExt cx="5142960" cy="457200"/>
              </a:xfrm>
            </p:grpSpPr>
            <p:sp>
              <p:nvSpPr>
                <p:cNvPr id="71" name="Rectangle 19"/>
                <p:cNvSpPr/>
                <p:nvPr/>
              </p:nvSpPr>
              <p:spPr>
                <a:xfrm>
                  <a:off x="219240" y="3556080"/>
                  <a:ext cx="5142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Rs 2 - 5 </a:t>
                  </a: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ли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0.2 - 0.5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Rectangle 20"/>
                <p:cNvSpPr/>
                <p:nvPr/>
              </p:nvSpPr>
              <p:spPr>
                <a:xfrm>
                  <a:off x="219240" y="3556080"/>
                  <a:ext cx="51429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Group 21"/>
              <p:cNvGrpSpPr/>
              <p:nvPr/>
            </p:nvGrpSpPr>
            <p:grpSpPr>
              <a:xfrm>
                <a:off x="5362560" y="3556080"/>
                <a:ext cx="3560760" cy="457200"/>
                <a:chOff x="5362560" y="3556080"/>
                <a:chExt cx="3560760" cy="457200"/>
              </a:xfrm>
            </p:grpSpPr>
            <p:sp>
              <p:nvSpPr>
                <p:cNvPr id="74" name="Rectangle 22"/>
                <p:cNvSpPr/>
                <p:nvPr/>
              </p:nvSpPr>
              <p:spPr>
                <a:xfrm>
                  <a:off x="5362560" y="3556080"/>
                  <a:ext cx="3560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зазива мале промен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Rectangle 23"/>
                <p:cNvSpPr/>
                <p:nvPr/>
              </p:nvSpPr>
              <p:spPr>
                <a:xfrm>
                  <a:off x="5362560" y="3556080"/>
                  <a:ext cx="35607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Group 24"/>
              <p:cNvGrpSpPr/>
              <p:nvPr/>
            </p:nvGrpSpPr>
            <p:grpSpPr>
              <a:xfrm>
                <a:off x="219240" y="4013280"/>
                <a:ext cx="5142960" cy="457200"/>
                <a:chOff x="219240" y="4013280"/>
                <a:chExt cx="5142960" cy="457200"/>
              </a:xfrm>
            </p:grpSpPr>
            <p:sp>
              <p:nvSpPr>
                <p:cNvPr id="77" name="Rectangle 25"/>
                <p:cNvSpPr/>
                <p:nvPr/>
              </p:nvSpPr>
              <p:spPr>
                <a:xfrm>
                  <a:off x="219240" y="4013280"/>
                  <a:ext cx="5142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Rs </a:t>
                  </a: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мањи од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 </a:t>
                  </a: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ли већи од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0.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Rectangle 26"/>
                <p:cNvSpPr/>
                <p:nvPr/>
              </p:nvSpPr>
              <p:spPr>
                <a:xfrm>
                  <a:off x="219240" y="4013280"/>
                  <a:ext cx="51429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Group 27"/>
              <p:cNvGrpSpPr/>
              <p:nvPr/>
            </p:nvGrpSpPr>
            <p:grpSpPr>
              <a:xfrm>
                <a:off x="5362560" y="4013280"/>
                <a:ext cx="3560760" cy="457200"/>
                <a:chOff x="5362560" y="4013280"/>
                <a:chExt cx="3560760" cy="457200"/>
              </a:xfrm>
            </p:grpSpPr>
            <p:sp>
              <p:nvSpPr>
                <p:cNvPr id="80" name="Rectangle 28"/>
                <p:cNvSpPr/>
                <p:nvPr/>
              </p:nvSpPr>
              <p:spPr>
                <a:xfrm>
                  <a:off x="5362560" y="4013280"/>
                  <a:ext cx="3560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зазива незнатне пром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Rectangle 29"/>
                <p:cNvSpPr/>
                <p:nvPr/>
              </p:nvSpPr>
              <p:spPr>
                <a:xfrm>
                  <a:off x="5362560" y="4013280"/>
                  <a:ext cx="35607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Group 30"/>
              <p:cNvGrpSpPr/>
              <p:nvPr/>
            </p:nvGrpSpPr>
            <p:grpSpPr>
              <a:xfrm>
                <a:off x="219240" y="4470480"/>
                <a:ext cx="5142960" cy="457200"/>
                <a:chOff x="219240" y="4470480"/>
                <a:chExt cx="5142960" cy="457200"/>
              </a:xfrm>
            </p:grpSpPr>
            <p:sp>
              <p:nvSpPr>
                <p:cNvPr id="83" name="Rectangle 31"/>
                <p:cNvSpPr/>
                <p:nvPr/>
              </p:nvSpPr>
              <p:spPr>
                <a:xfrm>
                  <a:off x="219240" y="4470480"/>
                  <a:ext cx="5142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Rs = 1.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Rectangle 32"/>
                <p:cNvSpPr/>
                <p:nvPr/>
              </p:nvSpPr>
              <p:spPr>
                <a:xfrm>
                  <a:off x="219240" y="4470480"/>
                  <a:ext cx="51429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Group 33"/>
              <p:cNvGrpSpPr/>
              <p:nvPr/>
            </p:nvGrpSpPr>
            <p:grpSpPr>
              <a:xfrm>
                <a:off x="5362560" y="4470480"/>
                <a:ext cx="3560760" cy="457200"/>
                <a:chOff x="5362560" y="4470480"/>
                <a:chExt cx="3560760" cy="457200"/>
              </a:xfrm>
            </p:grpSpPr>
            <p:sp>
              <p:nvSpPr>
                <p:cNvPr id="86" name="Rectangle 34"/>
                <p:cNvSpPr/>
                <p:nvPr/>
              </p:nvSpPr>
              <p:spPr>
                <a:xfrm>
                  <a:off x="5362560" y="4470480"/>
                  <a:ext cx="3560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Не изазива промен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Rectangle 35"/>
                <p:cNvSpPr/>
                <p:nvPr/>
              </p:nvSpPr>
              <p:spPr>
                <a:xfrm>
                  <a:off x="5362560" y="4470480"/>
                  <a:ext cx="35607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Rectangle 36"/>
            <p:cNvSpPr/>
            <p:nvPr/>
          </p:nvSpPr>
          <p:spPr>
            <a:xfrm>
              <a:off x="214200" y="2637000"/>
              <a:ext cx="8715240" cy="2295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4-07-12T17:24:38Z</dcterms:modified>
  <cp:revision>57</cp:revision>
  <dc:subject/>
  <dc:title>Slide 1</dc:title>
</cp:coreProperties>
</file>